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3EC-264B-4400-B310-6A2D3073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85F-17D7-463A-A515-80686702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99F-93FD-469B-92D6-0932D733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673-D821-4A58-8735-12378C02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6C2-8EB6-484B-984D-3ED37E85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621-E13F-443C-8C49-CAC8EBD1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4BA-3EDD-417C-84B1-E3B3657A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E38-9E60-4D4D-BE11-61600755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980-5CF4-4410-83FD-B2376CE8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029-9B6A-4D5D-ADA1-4465437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E28-7AFD-40DB-B1AB-755DC0E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F37-B4C7-4AE7-8935-10895DBF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8CD4-5E06-4CA2-A8A5-0FDBC3048D69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00" descr=""/>
          <p:cNvPicPr/>
          <p:nvPr/>
        </p:nvPicPr>
        <p:blipFill>
          <a:blip r:embed="rId1"/>
          <a:stretch/>
        </p:blipFill>
        <p:spPr>
          <a:xfrm>
            <a:off x="30930840" y="18891360"/>
            <a:ext cx="12844440" cy="8242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95"/>
          <p:cNvSpPr/>
          <p:nvPr/>
        </p:nvSpPr>
        <p:spPr>
          <a:xfrm>
            <a:off x="0" y="0"/>
            <a:ext cx="16106760" cy="330897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2485520" y="9844200"/>
            <a:ext cx="19442160" cy="17130600"/>
            <a:chOff x="12485520" y="9844200"/>
            <a:chExt cx="19442160" cy="17130600"/>
          </a:xfrm>
        </p:grpSpPr>
        <p:pic>
          <p:nvPicPr>
            <p:cNvPr id="44" name="Picture 48" descr="3747"/>
            <p:cNvPicPr/>
            <p:nvPr/>
          </p:nvPicPr>
          <p:blipFill>
            <a:blip r:embed="rId2"/>
            <a:stretch/>
          </p:blipFill>
          <p:spPr>
            <a:xfrm>
              <a:off x="12485520" y="22934520"/>
              <a:ext cx="3813480" cy="353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5"/>
            <p:cNvGrpSpPr/>
            <p:nvPr/>
          </p:nvGrpSpPr>
          <p:grpSpPr>
            <a:xfrm>
              <a:off x="14462280" y="9844200"/>
              <a:ext cx="17465400" cy="17130600"/>
              <a:chOff x="14462280" y="9844200"/>
              <a:chExt cx="17465400" cy="17130600"/>
            </a:xfrm>
          </p:grpSpPr>
          <p:pic>
            <p:nvPicPr>
              <p:cNvPr id="46" name="Picture 31" descr="Triar"/>
              <p:cNvPicPr/>
              <p:nvPr/>
            </p:nvPicPr>
            <p:blipFill>
              <a:blip r:embed="rId3"/>
              <a:stretch/>
            </p:blipFill>
            <p:spPr>
              <a:xfrm>
                <a:off x="16100280" y="11512440"/>
                <a:ext cx="11141280" cy="154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2" descr="invaex2"/>
              <p:cNvPicPr/>
              <p:nvPr/>
            </p:nvPicPr>
            <p:blipFill>
              <a:blip r:embed="rId4"/>
              <a:stretch/>
            </p:blipFill>
            <p:spPr>
              <a:xfrm>
                <a:off x="27474840" y="20699280"/>
                <a:ext cx="4452840" cy="49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Line 24"/>
              <p:cNvSpPr/>
              <p:nvPr/>
            </p:nvSpPr>
            <p:spPr>
              <a:xfrm>
                <a:off x="16370280" y="21425040"/>
                <a:ext cx="366228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 Box 25"/>
              <p:cNvSpPr/>
              <p:nvPr/>
            </p:nvSpPr>
            <p:spPr>
              <a:xfrm rot="1098600">
                <a:off x="25526520" y="2097252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bi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Picture 31" descr="oxygentank"/>
              <p:cNvPicPr/>
              <p:nvPr/>
            </p:nvPicPr>
            <p:blipFill>
              <a:blip r:embed="rId5"/>
              <a:srcRect l="25018" t="0" r="20014" b="0"/>
              <a:stretch/>
            </p:blipFill>
            <p:spPr>
              <a:xfrm>
                <a:off x="14603400" y="19275480"/>
                <a:ext cx="2416320" cy="36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Line 33"/>
              <p:cNvSpPr/>
              <p:nvPr/>
            </p:nvSpPr>
            <p:spPr>
              <a:xfrm flipV="1">
                <a:off x="15774840" y="24883560"/>
                <a:ext cx="5529240" cy="908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34"/>
              <p:cNvSpPr/>
              <p:nvPr/>
            </p:nvSpPr>
            <p:spPr>
              <a:xfrm>
                <a:off x="15160680" y="21412080"/>
                <a:ext cx="535788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ccessi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Picture 36" descr="vital-signs-300-large3"/>
              <p:cNvPicPr/>
              <p:nvPr/>
            </p:nvPicPr>
            <p:blipFill>
              <a:blip r:embed="rId6"/>
              <a:stretch/>
            </p:blipFill>
            <p:spPr>
              <a:xfrm>
                <a:off x="14462280" y="14185800"/>
                <a:ext cx="2690640" cy="50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39"/>
              <p:cNvSpPr/>
              <p:nvPr/>
            </p:nvSpPr>
            <p:spPr>
              <a:xfrm>
                <a:off x="16068600" y="17208360"/>
                <a:ext cx="361656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Vit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Picture 40" descr="ivstand"/>
              <p:cNvPicPr/>
              <p:nvPr/>
            </p:nvPicPr>
            <p:blipFill>
              <a:blip r:embed="rId7"/>
              <a:stretch/>
            </p:blipFill>
            <p:spPr>
              <a:xfrm>
                <a:off x="27973440" y="9844200"/>
                <a:ext cx="2170080" cy="53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43"/>
              <p:cNvSpPr/>
              <p:nvPr/>
            </p:nvSpPr>
            <p:spPr>
              <a:xfrm rot="20649600">
                <a:off x="25405920" y="10942560"/>
                <a:ext cx="36180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ortabl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Picture 44" descr="CDR0000526546"/>
              <p:cNvPicPr/>
              <p:nvPr/>
            </p:nvPicPr>
            <p:blipFill>
              <a:blip r:embed="rId8"/>
              <a:srcRect l="0" t="6900" r="31334" b="12523"/>
              <a:stretch/>
            </p:blipFill>
            <p:spPr>
              <a:xfrm>
                <a:off x="28744920" y="16382880"/>
                <a:ext cx="21034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47"/>
              <p:cNvSpPr/>
              <p:nvPr/>
            </p:nvSpPr>
            <p:spPr>
              <a:xfrm rot="21347400">
                <a:off x="25614000" y="16995600"/>
                <a:ext cx="3618000" cy="13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n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50"/>
              <p:cNvSpPr/>
              <p:nvPr/>
            </p:nvSpPr>
            <p:spPr>
              <a:xfrm>
                <a:off x="25984080" y="21218400"/>
                <a:ext cx="2349720" cy="8193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51"/>
              <p:cNvSpPr/>
              <p:nvPr/>
            </p:nvSpPr>
            <p:spPr>
              <a:xfrm rot="20956800">
                <a:off x="15165360" y="24904800"/>
                <a:ext cx="3618000" cy="13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ractica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Picture 52" descr="FAM_CLOROX_DISINFECTING_WIPE-2719"/>
              <p:cNvPicPr/>
              <p:nvPr/>
            </p:nvPicPr>
            <p:blipFill>
              <a:blip r:embed="rId9"/>
              <a:srcRect l="10709" t="5394" r="13504" b="0"/>
              <a:stretch/>
            </p:blipFill>
            <p:spPr>
              <a:xfrm rot="646800">
                <a:off x="14935320" y="10445400"/>
                <a:ext cx="1733400" cy="23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55"/>
              <p:cNvSpPr/>
              <p:nvPr/>
            </p:nvSpPr>
            <p:spPr>
              <a:xfrm rot="615600">
                <a:off x="15697080" y="11423160"/>
                <a:ext cx="361656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Sanitar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38"/>
              <p:cNvSpPr/>
              <p:nvPr/>
            </p:nvSpPr>
            <p:spPr>
              <a:xfrm flipV="1">
                <a:off x="26363520" y="11478960"/>
                <a:ext cx="1979640" cy="6807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42"/>
              <p:cNvSpPr/>
              <p:nvPr/>
            </p:nvSpPr>
            <p:spPr>
              <a:xfrm flipV="1">
                <a:off x="26179560" y="17746200"/>
                <a:ext cx="2349360" cy="2034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46"/>
              <p:cNvSpPr/>
              <p:nvPr/>
            </p:nvSpPr>
            <p:spPr>
              <a:xfrm>
                <a:off x="16903800" y="17132400"/>
                <a:ext cx="2225520" cy="730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54"/>
              <p:cNvSpPr/>
              <p:nvPr/>
            </p:nvSpPr>
            <p:spPr>
              <a:xfrm flipH="1" flipV="1">
                <a:off x="16484760" y="12052080"/>
                <a:ext cx="2411280" cy="476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7"/>
          <p:cNvGrpSpPr/>
          <p:nvPr/>
        </p:nvGrpSpPr>
        <p:grpSpPr>
          <a:xfrm>
            <a:off x="1581120" y="723960"/>
            <a:ext cx="6362280" cy="4724280"/>
            <a:chOff x="1581120" y="723960"/>
            <a:chExt cx="6362280" cy="4724280"/>
          </a:xfrm>
        </p:grpSpPr>
        <p:sp>
          <p:nvSpPr>
            <p:cNvPr id="70" name="Line 8"/>
            <p:cNvSpPr/>
            <p:nvPr/>
          </p:nvSpPr>
          <p:spPr>
            <a:xfrm flipV="1">
              <a:off x="3298320" y="3130200"/>
              <a:ext cx="632880" cy="20754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>
              <a:off x="2509920" y="926280"/>
              <a:ext cx="1443600" cy="1723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5038200" y="3128400"/>
              <a:ext cx="123372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3772440" y="3130560"/>
              <a:ext cx="1108080" cy="4942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3953880" y="2644200"/>
              <a:ext cx="1130760" cy="29088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1581120" y="723960"/>
              <a:ext cx="949320" cy="23004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 flipV="1">
              <a:off x="5540040" y="2700720"/>
              <a:ext cx="312480" cy="42732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5"/>
            <p:cNvSpPr/>
            <p:nvPr/>
          </p:nvSpPr>
          <p:spPr>
            <a:xfrm>
              <a:off x="5124240" y="2695680"/>
              <a:ext cx="123228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>
              <a:off x="6710040" y="3128400"/>
              <a:ext cx="1176120" cy="205776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 flipV="1">
              <a:off x="6643080" y="4116960"/>
              <a:ext cx="632880" cy="1980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6878520" y="2926080"/>
              <a:ext cx="714960" cy="1215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6958440" y="2860200"/>
              <a:ext cx="984960" cy="45936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6377040" y="3091320"/>
              <a:ext cx="342360" cy="183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 flipH="1">
              <a:off x="2820600" y="2452680"/>
              <a:ext cx="948960" cy="29660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6393960" y="3270600"/>
              <a:ext cx="529920" cy="217764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2"/>
          <p:cNvSpPr/>
          <p:nvPr/>
        </p:nvSpPr>
        <p:spPr>
          <a:xfrm>
            <a:off x="11125080" y="266760"/>
            <a:ext cx="38481120" cy="2514600"/>
          </a:xfrm>
          <a:prstGeom prst="roundRect">
            <a:avLst>
              <a:gd name="adj" fmla="val 50000"/>
            </a:avLst>
          </a:prstGeom>
          <a:solidFill>
            <a:srgbClr val="99ccff">
              <a:alpha val="50000"/>
            </a:srgbClr>
          </a:solidFill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0" bIns="46800" anchor="ctr">
            <a:noAutofit/>
          </a:bodyPr>
          <a:p>
            <a:pPr>
              <a:spcBef>
                <a:spcPts val="593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9500" spc="-1" strike="noStrike">
                <a:solidFill>
                  <a:srgbClr val="333399"/>
                </a:solidFill>
                <a:latin typeface="Arial"/>
              </a:rPr>
              <a:t>Process Defining Furnitu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3"/>
          <p:cNvSpPr/>
          <p:nvPr/>
        </p:nvSpPr>
        <p:spPr>
          <a:xfrm>
            <a:off x="15011280" y="2933640"/>
            <a:ext cx="34594920" cy="15242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27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bddeff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bddeff"/>
                </a:solidFill>
                <a:latin typeface="Arial"/>
              </a:rPr>
              <a:t>Advancing Triage for the Fu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095560" y="55245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Gulim"/>
                <a:ea typeface="Arial"/>
              </a:rPr>
              <a:t>The Triage C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34670880" y="22783680"/>
            <a:ext cx="906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4"/>
          <p:cNvGrpSpPr/>
          <p:nvPr/>
        </p:nvGrpSpPr>
        <p:grpSpPr>
          <a:xfrm>
            <a:off x="14325480" y="27565200"/>
            <a:ext cx="15544800" cy="5443560"/>
            <a:chOff x="14325480" y="27565200"/>
            <a:chExt cx="15544800" cy="5443560"/>
          </a:xfrm>
        </p:grpSpPr>
        <p:pic>
          <p:nvPicPr>
            <p:cNvPr id="90" name="Picture 27" descr="HR1130_Advance2000"/>
            <p:cNvPicPr/>
            <p:nvPr/>
          </p:nvPicPr>
          <p:blipFill>
            <a:blip r:embed="rId10"/>
            <a:stretch/>
          </p:blipFill>
          <p:spPr>
            <a:xfrm>
              <a:off x="14325480" y="28433520"/>
              <a:ext cx="56772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Line 29"/>
            <p:cNvSpPr/>
            <p:nvPr/>
          </p:nvSpPr>
          <p:spPr>
            <a:xfrm>
              <a:off x="20650320" y="30476520"/>
              <a:ext cx="30477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0"/>
            <p:cNvSpPr/>
            <p:nvPr/>
          </p:nvSpPr>
          <p:spPr>
            <a:xfrm>
              <a:off x="19431000" y="29467080"/>
              <a:ext cx="514368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clin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69" descr=""/>
            <p:cNvPicPr/>
            <p:nvPr/>
          </p:nvPicPr>
          <p:blipFill>
            <a:blip r:embed="rId11"/>
            <a:stretch/>
          </p:blipFill>
          <p:spPr>
            <a:xfrm>
              <a:off x="23294880" y="27565200"/>
              <a:ext cx="6575400" cy="54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93"/>
          <p:cNvGrpSpPr/>
          <p:nvPr/>
        </p:nvGrpSpPr>
        <p:grpSpPr>
          <a:xfrm>
            <a:off x="31775400" y="10896480"/>
            <a:ext cx="11810880" cy="6229440"/>
            <a:chOff x="31775400" y="10896480"/>
            <a:chExt cx="11810880" cy="6229440"/>
          </a:xfrm>
        </p:grpSpPr>
        <p:sp>
          <p:nvSpPr>
            <p:cNvPr id="95" name="Text Box 71"/>
            <p:cNvSpPr/>
            <p:nvPr/>
          </p:nvSpPr>
          <p:spPr>
            <a:xfrm>
              <a:off x="31775400" y="108964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efo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72" descr=""/>
            <p:cNvPicPr/>
            <p:nvPr/>
          </p:nvPicPr>
          <p:blipFill>
            <a:blip r:embed="rId12"/>
            <a:stretch/>
          </p:blipFill>
          <p:spPr>
            <a:xfrm>
              <a:off x="32486400" y="11620080"/>
              <a:ext cx="4959360" cy="54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Freeform 73"/>
            <p:cNvSpPr/>
            <p:nvPr/>
          </p:nvSpPr>
          <p:spPr>
            <a:xfrm>
              <a:off x="33616800" y="13011120"/>
              <a:ext cx="4413240" cy="356256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4"/>
            <p:cNvSpPr/>
            <p:nvPr/>
          </p:nvSpPr>
          <p:spPr>
            <a:xfrm>
              <a:off x="34061400" y="13106160"/>
              <a:ext cx="4190760" cy="3594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5"/>
            <p:cNvSpPr/>
            <p:nvPr/>
          </p:nvSpPr>
          <p:spPr>
            <a:xfrm>
              <a:off x="37309320" y="10939320"/>
              <a:ext cx="61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  <a:ea typeface="Arial"/>
                </a:rPr>
                <a:t>Af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76" descr=""/>
            <p:cNvPicPr/>
            <p:nvPr/>
          </p:nvPicPr>
          <p:blipFill>
            <a:blip r:embed="rId13"/>
            <a:stretch/>
          </p:blipFill>
          <p:spPr>
            <a:xfrm>
              <a:off x="38025360" y="11644200"/>
              <a:ext cx="4871880" cy="54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Freeform 77"/>
            <p:cNvSpPr/>
            <p:nvPr/>
          </p:nvSpPr>
          <p:spPr>
            <a:xfrm>
              <a:off x="39230280" y="15022440"/>
              <a:ext cx="4190760" cy="120636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8"/>
            <p:cNvSpPr/>
            <p:nvPr/>
          </p:nvSpPr>
          <p:spPr>
            <a:xfrm>
              <a:off x="40716360" y="13092120"/>
              <a:ext cx="2869920" cy="388620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9"/>
            <p:cNvSpPr/>
            <p:nvPr/>
          </p:nvSpPr>
          <p:spPr>
            <a:xfrm>
              <a:off x="38252520" y="11872800"/>
              <a:ext cx="4419360" cy="25909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0"/>
            <p:cNvSpPr/>
            <p:nvPr/>
          </p:nvSpPr>
          <p:spPr>
            <a:xfrm rot="21118800">
              <a:off x="38862000" y="12710520"/>
              <a:ext cx="297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Arial"/>
                </a:rPr>
                <a:t>Reduced 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81"/>
            <p:cNvSpPr/>
            <p:nvPr/>
          </p:nvSpPr>
          <p:spPr>
            <a:xfrm>
              <a:off x="33756480" y="13030200"/>
              <a:ext cx="4114800" cy="3505320"/>
            </a:xfrm>
            <a:prstGeom prst="pie">
              <a:avLst/>
            </a:prstGeom>
            <a:noFill/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71" descr="connections"/>
          <p:cNvPicPr/>
          <p:nvPr/>
        </p:nvPicPr>
        <p:blipFill>
          <a:blip r:embed="rId14"/>
          <a:stretch/>
        </p:blipFill>
        <p:spPr>
          <a:xfrm>
            <a:off x="32308920" y="26060400"/>
            <a:ext cx="9855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33520" y="7238880"/>
            <a:ext cx="13106160" cy="64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efficient Work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or Space Ut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accessibl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ck of Procedure Integ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" y="14249520"/>
            <a:ext cx="12573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Impact of the Proble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ngthens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es Extra Walking for Nurses and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rge Space Needed for Current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0880" y="21902760"/>
            <a:ext cx="1181124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8600" spc="-1" strike="noStrike">
                <a:solidFill>
                  <a:srgbClr val="333399"/>
                </a:solidFill>
                <a:latin typeface="Arial"/>
              </a:rPr>
              <a:t>Design Principle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integrated the process to facilitate workflow and reduce Triag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y to cle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rgono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333399"/>
              </a:buClr>
              <a:buSzPct val="70000"/>
              <a:buFont typeface="Wingdings 2" charset="2"/>
              <a:buChar char="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rniture should be easil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3"/>
          <p:cNvSpPr/>
          <p:nvPr/>
        </p:nvSpPr>
        <p:spPr>
          <a:xfrm>
            <a:off x="33299280" y="5086440"/>
            <a:ext cx="998244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riar’s Impac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ity Adap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space of T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grates Triage equip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duces foot pr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ximizes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6992720" y="4848120"/>
            <a:ext cx="10134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1" strike="noStrike">
                <a:ln w="63360">
                  <a:solidFill>
                    <a:srgbClr val="bdde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One Stop Chair</a:t>
            </a:r>
            <a:endParaRPr b="0" lang="en-US" sz="8600" spc="1" strike="noStrike">
              <a:ln w="63360">
                <a:solidFill>
                  <a:srgbClr val="bdde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31775400" y="4419720"/>
            <a:ext cx="0" cy="28498680"/>
          </a:xfrm>
          <a:prstGeom prst="line">
            <a:avLst/>
          </a:prstGeom>
          <a:ln w="7632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2"/>
          <p:cNvSpPr/>
          <p:nvPr/>
        </p:nvSpPr>
        <p:spPr>
          <a:xfrm>
            <a:off x="37414080" y="37339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, Dr. Craig Zim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13868280" y="6845400"/>
            <a:ext cx="693432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20069280" y="685332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el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4993720" y="6858000"/>
            <a:ext cx="693396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ood sample tr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e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buClr>
                <a:srgbClr val="333399"/>
              </a:buClr>
              <a:buSzPct val="70000"/>
              <a:buFont typeface="Wingdings 2" charset="2"/>
              <a:buChar char=""/>
              <a:tabLst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V 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30570480" y="-838080"/>
            <a:ext cx="14173200" cy="542268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2842080" y="171360"/>
            <a:ext cx="104536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on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ky Halc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pil Raj N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5114040" y="26193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: David Cowan; Jeremy Ackerman, MD, Ph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5737920" y="319572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Yi-Luen Do, PhD; Marilyn Margolis, RN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36480600" y="3767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 Zimring, PhD; Marvina Williams, 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3"/>
          <p:cNvSpPr/>
          <p:nvPr/>
        </p:nvSpPr>
        <p:spPr>
          <a:xfrm flipV="1">
            <a:off x="41595840" y="4419720"/>
            <a:ext cx="3217680" cy="381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4" descr=""/>
          <p:cNvPicPr/>
          <p:nvPr/>
        </p:nvPicPr>
        <p:blipFill>
          <a:blip r:embed="rId15"/>
          <a:srcRect l="8635" t="14149" r="5038" b="17686"/>
          <a:stretch/>
        </p:blipFill>
        <p:spPr>
          <a:xfrm>
            <a:off x="38199960" y="0"/>
            <a:ext cx="472428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5"/>
          <p:cNvGrpSpPr/>
          <p:nvPr/>
        </p:nvGrpSpPr>
        <p:grpSpPr>
          <a:xfrm>
            <a:off x="30403800" y="228600"/>
            <a:ext cx="11201040" cy="4266720"/>
            <a:chOff x="30403800" y="228600"/>
            <a:chExt cx="11201040" cy="4266720"/>
          </a:xfrm>
        </p:grpSpPr>
        <p:sp>
          <p:nvSpPr>
            <p:cNvPr id="125" name="Line 66"/>
            <p:cNvSpPr/>
            <p:nvPr/>
          </p:nvSpPr>
          <p:spPr>
            <a:xfrm>
              <a:off x="32553720" y="624960"/>
              <a:ext cx="3384360" cy="331920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35924040" y="3933720"/>
              <a:ext cx="5680800" cy="5616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30403800" y="228600"/>
              <a:ext cx="2210760" cy="451800"/>
            </a:xfrm>
            <a:prstGeom prst="pie">
              <a:avLst/>
            </a:prstGeom>
            <a:noFill/>
            <a:ln w="190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2541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9"/>
          <p:cNvSpPr/>
          <p:nvPr/>
        </p:nvSpPr>
        <p:spPr>
          <a:xfrm>
            <a:off x="34366320" y="17278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1"/>
          <p:cNvSpPr/>
          <p:nvPr/>
        </p:nvSpPr>
        <p:spPr>
          <a:xfrm>
            <a:off x="34633080" y="17430840"/>
            <a:ext cx="533160" cy="22860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3"/>
          <p:cNvSpPr/>
          <p:nvPr/>
        </p:nvSpPr>
        <p:spPr>
          <a:xfrm>
            <a:off x="32232600" y="18135720"/>
            <a:ext cx="99820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436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7100" spc="-1" strike="noStrike">
                <a:solidFill>
                  <a:srgbClr val="333399"/>
                </a:solidFill>
                <a:latin typeface="Arial"/>
              </a:rPr>
              <a:t>The Future Triar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37814400" y="17297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1"/>
          <p:cNvSpPr/>
          <p:nvPr/>
        </p:nvSpPr>
        <p:spPr>
          <a:xfrm>
            <a:off x="38080800" y="17449920"/>
            <a:ext cx="533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3:45Z</dcterms:created>
  <dc:creator>Becky</dc:creator>
  <dc:description/>
  <dc:language>en-US</dc:language>
  <cp:lastModifiedBy>Kapil</cp:lastModifiedBy>
  <dcterms:modified xsi:type="dcterms:W3CDTF">2008-11-24T20:12:48Z</dcterms:modified>
  <cp:revision>52</cp:revision>
  <dc:subject/>
  <dc:title>Slide 1</dc:title>
</cp:coreProperties>
</file>